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E4E-3669-4BEE-A2E2-93E2B6FB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387-B76A-40E0-A53A-ED69E8F1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97E-F6D4-4394-968B-215C8E4E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9E9-0598-44C6-AA66-15DE0DCE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716-C69D-4C53-8615-F39D1E4E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E51-325E-4FBF-A1D5-F7E00DE3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9DF-D059-45E5-88DB-D8CE2F5E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A1E-C31A-4F94-8426-BD046E54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B3F-96D1-4C78-8C41-A99192CB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7C2-A020-4375-8212-4D2839F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518-B78F-46E5-8B33-5103073B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669-139E-4E56-8110-D118770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7A0-FC6E-4EA9-A2C7-F4671D9C9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26 &amp; 27-11   * Focus Test this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eo. Terms Test this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990720"/>
            <a:ext cx="4572000" cy="286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26 &amp; 2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point of land that extends into a river, lake, or oc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high, flat landform that rises steeply above the surrounding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series of connected mountains call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2971800" y="1676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5"/>
          <p:cNvSpPr/>
          <p:nvPr/>
        </p:nvSpPr>
        <p:spPr>
          <a:xfrm>
            <a:off x="3581280" y="25909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lat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23623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untain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http://static.panoramio.com/photos/original/15879321.jpg"/>
          <p:cNvPicPr/>
          <p:nvPr/>
        </p:nvPicPr>
        <p:blipFill>
          <a:blip r:embed="rId1"/>
          <a:stretch/>
        </p:blipFill>
        <p:spPr>
          <a:xfrm>
            <a:off x="5105520" y="3479760"/>
            <a:ext cx="5084640" cy="3378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upload.wikimedia.org/wikipedia/commons/1/1d/Satellite_image_of_Cape_peninsula.jpg"/>
          <p:cNvPicPr/>
          <p:nvPr/>
        </p:nvPicPr>
        <p:blipFill>
          <a:blip r:embed="rId2"/>
          <a:srcRect l="16810" t="0" r="0" b="0"/>
          <a:stretch/>
        </p:blipFill>
        <p:spPr>
          <a:xfrm>
            <a:off x="0" y="3505320"/>
            <a:ext cx="5140440" cy="335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http://www.traveladventures.org/continents/africa/images/hamm10.jpg"/>
          <p:cNvPicPr/>
          <p:nvPr/>
        </p:nvPicPr>
        <p:blipFill>
          <a:blip r:embed="rId3"/>
          <a:srcRect l="0" t="0" r="0" b="26155"/>
          <a:stretch/>
        </p:blipFill>
        <p:spPr>
          <a:xfrm>
            <a:off x="4572000" y="9907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26T13:11:53Z</dcterms:modified>
  <cp:revision>102</cp:revision>
  <dc:subject/>
  <dc:title>Slide 1</dc:title>
</cp:coreProperties>
</file>